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9982-5813-4C3C-875A-50BB2DBE7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BDD4-DBC2-4AAC-96AE-E6356D70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D57C-0FFE-472F-B5D7-6F1DE876F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EADE-1438-4106-B4F4-6EF9740F9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AD2E6-47C0-4DC2-919E-BE6A193EB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D41D-D1AF-4E75-9EDF-920AB454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9208-5348-4B88-81CC-8E264444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95F7-860C-4306-9A3D-5C97FB3B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D2DC0-CB1A-4F8A-91D7-963A727E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B4A0-F7D2-4758-A658-D519E282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892C2-2C3D-4A28-8C10-74552C1A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C254-033E-4F4F-ABDE-EB30B501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E3BC-9A2F-4866-87B3-BD77B583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AB8C-3643-4057-B868-56F87061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15E63-6086-4350-9E43-F10F83D1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4EEB-EA67-4F56-B343-70FC0F8C4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DF0A-43E9-4F7D-9201-EC5C34006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06127-E911-43FF-B536-F4DF3001D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0A962-A01A-48A8-88AC-BE45C4F7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D845A-468E-4C54-9DD2-F28F5F81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A5669-62A1-4C33-99CD-C208191B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DB4D6-DB66-4C62-BE4B-9D64E1AC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7301-150E-4F8A-9829-A8A246DF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FF91F-4745-4459-B024-F3A1FE7B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6336F-DD40-49E1-B5CA-0C05C528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A8C62-B06F-4B41-ABC9-A9FA43B8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5D485-6117-481F-8E6B-EFF7571D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A09AC-C762-483C-8805-DB7AAE37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DEFE4-76E6-4635-A568-AB82EBE89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A3840-75CA-435E-B8E8-BC6F0D82C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64AE5-9F51-4CC4-B6C9-4991EC51A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CFFA9-73E5-4B5D-8985-D473E381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21E06-C123-4E40-A612-2A8E1F8D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264D-EE5D-46E1-B335-F5EDD103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53F1D-A4C4-48A9-B1C1-74277268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9BA79-EA7E-43A8-8DF1-7A2D2F5D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99717-C484-4286-AB11-A962D770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3C299-3F43-41A6-AF47-582D8683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F6BE2-58AD-4937-A1A4-F2E8A425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C38AF-53DB-4229-B9DA-63CB303D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C14D4-385B-4A6B-B727-13A82018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64876-2C2A-432C-9883-6652E4171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84794-0AD6-464E-96E1-AE52C2E49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58B34-94E9-4CE6-BB66-6A0C1FA8F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C368-0CCD-4784-8E67-20F53459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66446-6829-4113-9FF4-1FB7B010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642BA-3B33-4502-99FC-7098A8FE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A2E36-A971-4DC7-AF74-D4EE7F73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DB10E-3566-405D-BCB7-7AE84175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2A93E-8244-4486-8D95-121A6779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0B2F5-2418-428A-873A-28B6A90E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4C2F6-0181-4A7E-A241-13C0FF3C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2FE25-30FE-40B9-A23A-80BD836B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62489-57E5-4DBA-AE30-506DB174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CFC52-5983-4D6C-9AFE-E85E648A7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5F80-BBB9-4B51-9BA3-29176076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156EF-1323-43F3-8657-89F6CCCEC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6DFC-7CCF-4CD4-97CF-46EF5757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7DFB-EC16-43DB-9943-141DEC89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A503-7150-43FC-8AE9-7A9CDC0B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E260-91AA-4D75-9602-0725C2FF9CE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9E9D-864B-4917-B2B4-C38711E11DE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94ED-ED36-442E-93DB-2FFA8BA6BFC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FCD5-09C1-4836-9543-53D3ECEBF52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cubicBezTo>
                  <a:pt x="2296005" y="0"/>
                  <a:pt x="2324605" y="28600"/>
                  <a:pt x="2324605" y="63880"/>
                </a:cubicBezTo>
                <a:lnTo>
                  <a:pt x="2324605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2BAB-A370-46AA-9632-205F1CBBA41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569080" cy="554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ff8d3e"/>
                </a:solidFill>
                <a:latin typeface="Verdana"/>
              </a:rPr>
              <a:t>Діяльність Української гельсінської спілки</a:t>
            </a:r>
            <a:r>
              <a:rPr b="1" lang="uk-UA" sz="45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8d3e"/>
                </a:solidFill>
                <a:latin typeface="Verdana"/>
              </a:rPr>
              <a:t>Дата утворення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0000"/>
                </a:solidFill>
                <a:latin typeface="Verdana"/>
              </a:rPr>
              <a:t>Листопад 1976 року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500" spc="-1" strike="noStrike">
                <a:solidFill>
                  <a:srgbClr val="ff8d3e"/>
                </a:solidFill>
                <a:latin typeface="Verdana"/>
              </a:rPr>
              <a:t>Лідер:</a:t>
            </a:r>
            <a:r>
              <a:rPr b="1" lang="uk-UA" sz="32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924360" y="1413000"/>
            <a:ext cx="4921200" cy="4682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100" spc="-1" strike="noStrike">
                <a:solidFill>
                  <a:srgbClr val="000000"/>
                </a:solidFill>
                <a:latin typeface="Verdana"/>
              </a:rPr>
              <a:t>Микола Руденко </a:t>
            </a:r>
            <a:endParaRPr b="0" lang="en-US" sz="8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8d3e"/>
                </a:solidFill>
                <a:latin typeface="Verdana"/>
              </a:rPr>
              <a:t>Учасники:</a:t>
            </a:r>
            <a:endParaRPr b="1" lang="en-US" sz="6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100" spc="-1" strike="noStrike">
                <a:solidFill>
                  <a:srgbClr val="000000"/>
                </a:solidFill>
                <a:latin typeface="Verdana"/>
              </a:rPr>
              <a:t>Левко Лук’яненко </a:t>
            </a:r>
            <a:endParaRPr b="0" lang="en-US" sz="6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100" spc="-1" strike="noStrike">
                <a:solidFill>
                  <a:srgbClr val="000000"/>
                </a:solidFill>
                <a:latin typeface="Verdana"/>
              </a:rPr>
              <a:t>Іван Кандиба </a:t>
            </a:r>
            <a:endParaRPr b="0" lang="en-US" sz="6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100" spc="-1" strike="noStrike">
                <a:solidFill>
                  <a:srgbClr val="000000"/>
                </a:solidFill>
                <a:latin typeface="Verdana"/>
              </a:rPr>
              <a:t>Павло Григоренко </a:t>
            </a:r>
            <a:endParaRPr b="0" lang="en-US" sz="6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8d3e"/>
                </a:solidFill>
                <a:latin typeface="Verdana"/>
              </a:rPr>
              <a:t>Методи боротьби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Verdana"/>
              </a:rPr>
              <a:t>Легальні (у межах радянської конституції та підписаних СРСР міжнародних угод)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280" y="244440"/>
            <a:ext cx="866304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8d3e"/>
                </a:solidFill>
                <a:latin typeface="Verdana"/>
              </a:rPr>
              <a:t>Мета та діяльність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8920" y="1197000"/>
            <a:ext cx="8666280" cy="5400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Verdana"/>
              </a:rPr>
              <a:t>Боротьба за дотримання прав людини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Verdana"/>
              </a:rPr>
              <a:t>Досягнення суверенітету України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Verdana"/>
              </a:rPr>
              <a:t>Боротьба за звільнення політв’язнів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Verdana"/>
              </a:rPr>
              <a:t>Ліквідація цензури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Verdana"/>
              </a:rPr>
              <a:t>Створення меморандумів, звернень до світової спільноти з приводу порушень прав людини в СРСР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Verdana"/>
              </a:rPr>
              <a:t>Складання списків політв’язнів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98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98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98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98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98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98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98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280" y="244080"/>
            <a:ext cx="830268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8d3e"/>
                </a:solidFill>
                <a:latin typeface="Verdana"/>
              </a:rPr>
              <a:t>Реакція влади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0" y="1052280"/>
            <a:ext cx="9144000" cy="5616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0000"/>
                </a:solidFill>
                <a:latin typeface="Verdana"/>
              </a:rPr>
              <a:t>Переслідування й репресії (із 37 членів 23 засуджені)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98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98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3T18:45:13Z</dcterms:created>
  <dc:creator>Customer</dc:creator>
  <dc:description/>
  <dc:language>en-US</dc:language>
  <cp:lastModifiedBy>vital</cp:lastModifiedBy>
  <dcterms:modified xsi:type="dcterms:W3CDTF">2016-01-17T06:19:18Z</dcterms:modified>
  <cp:revision>3</cp:revision>
  <dc:subject/>
  <dc:title>Слайд 1</dc:title>
</cp:coreProperties>
</file>