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EDD-BEA9-4793-9565-BFA19A05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792-CCBB-4A86-9C06-6BD2D768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B60D-8689-44A3-B60A-A8E3F05A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83BC-C0BE-48E7-8D8E-09515CA1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C6F8-F87C-4C1D-8BAE-3A2BCAFF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667A-B982-4160-A47F-E9155EDA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7E67-10EF-422B-9E49-7D9C7669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7A8C-E377-4507-B259-94C03A6E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B3E4-45FA-4AB0-A13E-E87AE54D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1471-F571-4A8D-BC10-FFF680A7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C8CE-FB89-46A3-BD70-A2798089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CFB-8CC5-4D08-A7CB-8A5A2B93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C625-29F4-4839-800E-58187559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F7B1-E884-4455-913B-49FFB441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0CF9-195F-49AE-BB03-7C8318F4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F78D-29BC-4D33-9FFF-69128CD8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1D9E-E191-4F54-8BDA-E7765F22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0085A-C635-4370-9732-DB50AFFA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DDE27-E6E7-45C2-9E85-B6999604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C0543-34F3-4596-8546-4ED0F308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37E71-4054-405A-BFC8-D2EC0712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3DE4E-1742-49D1-A9FB-B9D2B61B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8E6-3201-4570-9375-9F859018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E4BC6-FABB-4D21-9AF1-DCB09A0E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9FEBE-4F81-4ACA-A23D-5B96F719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A06B6-2B4B-480E-879A-0F8572BC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BEFC6-022E-4B32-ACF3-6CF4F124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4A530-BEEE-4432-A431-B33661BE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2D2F9-D6A5-445E-836E-2BA0E646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146B3-25F9-4E89-A0B5-9111A005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21A54-7CA3-423D-ACE5-421A47F4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21968-F554-4785-8204-78C0869E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A297B-913E-4ED8-9007-B785B2C4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A0D-EF0E-45F8-97C9-2A48671D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305AA-133B-4543-B34B-6A1C1E29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40963-3C63-4271-8833-3E920870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5DFE7-FB54-4381-946B-06D51CB5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4495C-4769-4CF4-A80B-36F338A4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537DC-F59A-424B-A184-C357F1C3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CB3BF-F0F7-46FB-8DBC-91EA59D4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C6F07-65B3-43DF-AA93-849D4C44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B93E5-9711-4215-8F20-482FF546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FD8C2-0793-4A21-A0AC-BCE08740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BA76F-E6E5-4DA8-ACC6-A589C737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227A-27FF-42E8-8041-EF429D4C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86248-2020-46DD-906B-0403C3BA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F003D-BE42-4122-977B-D6101728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AC387-DB49-4347-844C-F5E30A34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07532-BC92-4B31-A8E5-F99AEB0A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7017F-44AC-4BC4-A2A1-D2744B62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40B9B-A4B5-4CB8-BB1C-A3DFFDFA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FA25C-A445-49C1-A59F-4DF2C75A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60716-78CF-483D-9D7A-DB311EAB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34D03-2370-4B76-B85A-68A55EEA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A2C10-EF6D-4544-9578-A920B70B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E6C-2D96-4C0E-96F1-479908B0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DCA15-AB3E-4564-87A8-A709D399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02AE-83B5-4BC2-AD9E-5ACBBF23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A96-0409-4BE0-9594-40E09502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12FA-FC68-4A54-A9C3-4E7E7EE5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Округлений прямокут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Округлений прямокут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Округлений прямокут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48FA-01C0-4048-9EB9-F27418A9B33C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Округлений прямокут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Округлений прямокут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Округлений прямокут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D2E3-8B18-4CCB-A556-250812CDE057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Округлений прямокут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Округлений прямокут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Округлений прямокут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5736-BA4F-4027-9F51-5D3692FFDFCB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Округлений прямокут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F516-32C6-4EC1-8AF9-367C3D9D5305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Округлений прямокут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кутник з одним округленим кут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FE09-A367-4DC1-9CE4-AFA504BA9071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k.wikipedia.org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1835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Перегляд фрагменту навчального відеоролика </a:t>
            </a:r>
            <a:br>
              <a:rPr sz="3200"/>
            </a:b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«Крути – славна сторінка нашої історії»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Picture 2" descr="https://encrypted-tbn1.gstatic.com/images?q=tbn:ANd9GcRfbqJRoaypFcN-BZ4J2yVLoZ7owYVVOb58W0zGNGUEAIA2ndSy3A"/>
          <p:cNvPicPr/>
          <p:nvPr/>
        </p:nvPicPr>
        <p:blipFill>
          <a:blip r:embed="rId1"/>
          <a:stretch/>
        </p:blipFill>
        <p:spPr>
          <a:xfrm>
            <a:off x="1403280" y="2492280"/>
            <a:ext cx="65534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C:\Users\1\Desktop\10 украина\Урок 20 Украинское государство Скоропадского\Урок 20 Украинское государство Скоропадского\Иллюстрации\Скоропадский.jpg"/>
          <p:cNvPicPr/>
          <p:nvPr/>
        </p:nvPicPr>
        <p:blipFill>
          <a:blip r:embed="rId1"/>
          <a:stretch/>
        </p:blipFill>
        <p:spPr>
          <a:xfrm>
            <a:off x="214200" y="214200"/>
            <a:ext cx="4857840" cy="63579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635280" y="266400"/>
            <a:ext cx="5329440" cy="216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8d3e"/>
                </a:solidFill>
                <a:latin typeface="Arial Black"/>
              </a:rPr>
              <a:t>Українська держава </a:t>
            </a:r>
            <a:br>
              <a:rPr sz="3200"/>
            </a:br>
            <a:r>
              <a:rPr b="1" lang="uk-UA" sz="3200" spc="-1" strike="noStrike">
                <a:solidFill>
                  <a:srgbClr val="ff8d3e"/>
                </a:solidFill>
                <a:latin typeface="Arial Black"/>
              </a:rPr>
              <a:t>Павла Скоропадського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Picture 5" descr="C:\Users\1\Desktop\10 украина\Урок 20 Украинское государство Скоропадского\Урок 20 Украинское государство Скоропадского\Иллюстрации\грамота 2.jpg"/>
          <p:cNvPicPr/>
          <p:nvPr/>
        </p:nvPicPr>
        <p:blipFill>
          <a:blip r:embed="rId2"/>
          <a:stretch/>
        </p:blipFill>
        <p:spPr>
          <a:xfrm>
            <a:off x="3276720" y="2416320"/>
            <a:ext cx="5864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Мета урок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3280" y="1483920"/>
            <a:ext cx="8183520" cy="4824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визначити основні положення Брест-Литовського мирного договору, причини падіння Центральної  Ради, схарактеризувати внутрішню та зовнішню політику П. Скоропадського та причини падіння гетьманського режиму в Україні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вдосконалити навички роботи з джерелами інформації, вміння з’ясовувати причинно-наслідкові зв’язки, робити висновки та узагальнення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сприяти національно-патріотичному вихованню учні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530064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8d3e"/>
                </a:solidFill>
                <a:latin typeface="Verdana"/>
              </a:rPr>
              <a:t>Презентація інформаційного буклету «Брест-Литовський мирний договір і Україна»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8" name="Picture 5" descr="C:\Users\1\Desktop\10 украина\Урок 20 Украинское государство Скоропадского\Урок 20 Украинское государство Скоропадского\Иллюстрации\Брест-Литовские переговоры.jpg"/>
          <p:cNvPicPr/>
          <p:nvPr/>
        </p:nvPicPr>
        <p:blipFill>
          <a:blip r:embed="rId1"/>
          <a:stretch/>
        </p:blipFill>
        <p:spPr>
          <a:xfrm>
            <a:off x="1403280" y="531720"/>
            <a:ext cx="62643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8d3e"/>
                </a:solidFill>
                <a:latin typeface="Verdana"/>
              </a:rPr>
              <a:t>Перегляд фрагменту </a:t>
            </a:r>
            <a:br>
              <a:rPr sz="2800"/>
            </a:br>
            <a:r>
              <a:rPr b="1" lang="uk-UA" sz="2800" spc="-1" strike="noStrike">
                <a:solidFill>
                  <a:srgbClr val="ff8d3e"/>
                </a:solidFill>
                <a:latin typeface="Verdana"/>
              </a:rPr>
              <a:t>навчального відеоролика </a:t>
            </a:r>
            <a:br>
              <a:rPr sz="2800"/>
            </a:br>
            <a:r>
              <a:rPr b="1" lang="uk-UA" sz="2800" spc="-1" strike="noStrike">
                <a:solidFill>
                  <a:srgbClr val="ff8d3e"/>
                </a:solidFill>
                <a:latin typeface="Verdana"/>
              </a:rPr>
              <a:t>«Останні дні Центральної Ради»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Picture 2" descr="Будинок Центральної Ради"/>
          <p:cNvPicPr/>
          <p:nvPr/>
        </p:nvPicPr>
        <p:blipFill>
          <a:blip r:embed="rId1"/>
          <a:stretch/>
        </p:blipFill>
        <p:spPr>
          <a:xfrm>
            <a:off x="179280" y="1395360"/>
            <a:ext cx="5327640" cy="5170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Діячі Центральної Ради"/>
          <p:cNvPicPr/>
          <p:nvPr/>
        </p:nvPicPr>
        <p:blipFill>
          <a:blip r:embed="rId2"/>
          <a:stretch/>
        </p:blipFill>
        <p:spPr>
          <a:xfrm>
            <a:off x="4067280" y="4149720"/>
            <a:ext cx="4762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Робота в групах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8360" y="1483920"/>
            <a:ext cx="8183520" cy="496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І група –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робота з підручником. Самостійне опрацювання питання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 «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рихід до влади гетьмана Павла Скоропадського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Дати відповідь на питанн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Коли до влади прийшов гетьман П.Скоропадський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Які передумови приходу до влади гетьман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Хто був головним союзником гетьмана на зовнішній арені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Хто підтримував гетьмана на Україні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ІІ група -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складання інформаційної таблиці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 «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Внутрішня політика Павла Скоропадського». Джерело підручник «Історія України. 10 клас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ІІІ група –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на основі вивченого матеріалу зробити повідомлення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«Зовнішня політика Павла Скоропадського». Глобальна мережа Інтернет. Сайт </a:t>
            </a:r>
            <a:r>
              <a:rPr b="0" lang="uk-UA" sz="1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uk.wikipedia.org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 група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визначити причини падіння гетьманського уряду – джерело підручник «Історія епохи очима людини. 10 клас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183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Метод «Дерево рішень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». </a:t>
            </a:r>
            <a:br>
              <a:rPr sz="2400"/>
            </a:b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Дайте оцінку Українській державі Павла Скоропадського.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5" name="Picture 2" descr="Файл:Alex K Ukrainska Derzhava.svg"/>
          <p:cNvPicPr/>
          <p:nvPr/>
        </p:nvPicPr>
        <p:blipFill>
          <a:blip r:embed="rId1"/>
          <a:stretch/>
        </p:blipFill>
        <p:spPr>
          <a:xfrm>
            <a:off x="2340000" y="1197000"/>
            <a:ext cx="425124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218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Метод «Прес»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5280" y="1052280"/>
            <a:ext cx="8183520" cy="4824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Історик О. Мироненко називає Скоропадського «політичним перевертнем», мотивуючи це так: коли Україна була під Росією, Скоропадський ставав росіянином, коли під німцями — німцем, якби під Туреччиною, то вбачав би себе турком, а під Китаєм — китайцем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І. Усенко зазначає, що політичні погляди Скоропадського пройшли довгий шлях еволюції: від проросійсько-монархічних до переосмислення життєвих орієнтирів, зближення з національним рухом, спроби відшукати своє місце в ньому і прислужитися Україні — спочатку як військовий, потім як керівник держави. Він щирий патріот Україн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 u="sng">
                <a:solidFill>
                  <a:srgbClr val="000000"/>
                </a:solidFill>
                <a:uFillTx/>
                <a:latin typeface="Verdana"/>
              </a:rPr>
              <a:t>Яку б оцінку діяльності Скоропадському дали ви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 u="sng">
                <a:solidFill>
                  <a:srgbClr val="000000"/>
                </a:solidFill>
                <a:uFillTx/>
                <a:latin typeface="Verdana"/>
              </a:rPr>
              <a:t>Хто він був «щирим українцем» чи «політичним перевертнем»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Домашнє завдання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000" y="1557000"/>
            <a:ext cx="431964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. Опрацювати параграф 23 підручни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2. Створити інформаційний буклет «Внутрішня і зовнішня політика Павла Скоропадського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4" descr="C:\Users\1\Pictures\филин.png"/>
          <p:cNvPicPr/>
          <p:nvPr/>
        </p:nvPicPr>
        <p:blipFill>
          <a:blip r:embed="rId1"/>
          <a:stretch/>
        </p:blipFill>
        <p:spPr>
          <a:xfrm>
            <a:off x="4572000" y="765000"/>
            <a:ext cx="4371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5:28:58Z</dcterms:created>
  <dc:creator/>
  <dc:description/>
  <dc:language>en-US</dc:language>
  <cp:lastModifiedBy>Користувач</cp:lastModifiedBy>
  <cp:lastPrinted>2013-01-06T09:48:42Z</cp:lastPrinted>
  <dcterms:modified xsi:type="dcterms:W3CDTF">2013-01-06T11:10:03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ookName">
    <vt:lpwstr/>
  </property>
  <property fmtid="{D5CDD505-2E9C-101B-9397-08002B2CF9AE}" pid="3" name="IsFreeze">
    <vt:bool>0</vt:bool>
  </property>
  <property fmtid="{D5CDD505-2E9C-101B-9397-08002B2CF9AE}" pid="4" name="MayClose">
    <vt:bool>0</vt:bool>
  </property>
  <property fmtid="{D5CDD505-2E9C-101B-9397-08002B2CF9AE}" pid="5" name="UserClose">
    <vt:bool>0</vt:bool>
  </property>
</Properties>
</file>